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EB6-5E2B-40A8-BF31-CB55AB79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622-87A5-41D3-9B57-CA3DD81A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FD4-D315-4BC1-9C46-699453EB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29D-0A1A-40E3-81EC-2AAE7FE4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5FF4-A6A4-4012-980D-57ADFCEA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7EE4-C204-4EF8-95FC-79E37F92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7BBC-E4CF-48FA-8704-385296B2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F357-8143-410B-8241-A25D1BDF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5EFD-0EF9-4232-A0D5-0286BD38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3707-9E49-4FE9-8212-F70B5C5E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F074-3C61-46CF-9844-1644B70A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BAE-DD97-4DA6-B420-36B16432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001E-E43D-4B89-A4CF-0E9C8368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BFBC-B19C-4FA5-B127-E962FDC0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D314-9294-497C-A088-157EDD4D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CFFC-B03E-4C9A-B9AA-7E9DDEA4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6A73-1E36-4FD9-B515-996DE95C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A40-67F1-4913-AB7D-17560574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DB7-77F4-4F84-99D5-6DB6B3BC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BCD-5AE7-4427-B054-24FE69F6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96B-BD34-4738-B078-5CC56CF2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AEB-A792-4050-9F62-23FA3EA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872-C9DA-44E4-8388-D222EB2E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A68-BBC6-4B9D-94A3-3EBDA3D2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8E41-0939-41B6-AF35-3BB9C309E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B9FD-9D3E-4F84-B848-4061133F5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1304"/>
                </a:solidFill>
                <a:latin typeface="Verdana"/>
              </a:rPr>
              <a:t>Cells &amp; The First Microscopes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400" y="3409920"/>
            <a:ext cx="675612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t is a strange story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d you need to know about a few people.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85960" y="4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hooke"/>
          <p:cNvPicPr/>
          <p:nvPr/>
        </p:nvPicPr>
        <p:blipFill>
          <a:blip r:embed="rId1"/>
          <a:stretch/>
        </p:blipFill>
        <p:spPr>
          <a:xfrm>
            <a:off x="1954080" y="285840"/>
            <a:ext cx="5561280" cy="6191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Anton Van Leeuwenhoek</a:t>
            </a:r>
            <a:br>
              <a:rPr sz="4400"/>
            </a:b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1676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3581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a Dutch “</a:t>
            </a:r>
            <a:r>
              <a:rPr b="0" i="1" lang="en-US" sz="3200" spc="-1" strike="noStrike">
                <a:solidFill>
                  <a:srgbClr val="000000"/>
                </a:solidFill>
                <a:latin typeface="MS Reference Sans Serif"/>
              </a:rPr>
              <a:t>haberdasher</a:t>
            </a:r>
            <a:r>
              <a:rPr b="0" lang="en-US" sz="3200" spc="-1" strike="noStrike">
                <a:solidFill>
                  <a:srgbClr val="000000"/>
                </a:solidFill>
                <a:latin typeface="MS Reference Sans Serif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held model of the micro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d water (single celled anima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, teeth scrappings (bacter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rm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2819160" cy="2504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724280" y="2057400"/>
            <a:ext cx="40388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nimalcules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5"/>
          <p:cNvGrpSpPr/>
          <p:nvPr/>
        </p:nvGrpSpPr>
        <p:grpSpPr>
          <a:xfrm>
            <a:off x="588960" y="-266760"/>
            <a:ext cx="7966080" cy="7391520"/>
            <a:chOff x="588960" y="-266760"/>
            <a:chExt cx="7966080" cy="7391520"/>
          </a:xfrm>
        </p:grpSpPr>
        <p:sp>
          <p:nvSpPr>
            <p:cNvPr id="117" name="Rectangle 2"/>
            <p:cNvSpPr/>
            <p:nvPr/>
          </p:nvSpPr>
          <p:spPr>
            <a:xfrm>
              <a:off x="588960" y="-266760"/>
              <a:ext cx="7966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8960" y="-266760"/>
              <a:ext cx="6721560" cy="73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5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Picture 4" descr="Drawing of a sperm"/>
          <p:cNvPicPr/>
          <p:nvPr/>
        </p:nvPicPr>
        <p:blipFill>
          <a:blip r:embed="rId1"/>
          <a:srcRect l="0" t="0" r="0" b="13671"/>
          <a:stretch/>
        </p:blipFill>
        <p:spPr>
          <a:xfrm>
            <a:off x="1257480" y="304920"/>
            <a:ext cx="2857320" cy="6235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4952880" y="228600"/>
            <a:ext cx="3810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n Leewenhoek’s concept of a sperm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homunculus"/>
          <p:cNvPicPr/>
          <p:nvPr/>
        </p:nvPicPr>
        <p:blipFill>
          <a:blip r:embed="rId2"/>
          <a:stretch/>
        </p:blipFill>
        <p:spPr>
          <a:xfrm>
            <a:off x="6058080" y="3200400"/>
            <a:ext cx="1485720" cy="3360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7" descr="Click to enlarge"/>
          <p:cNvPicPr/>
          <p:nvPr/>
        </p:nvPicPr>
        <p:blipFill>
          <a:blip r:embed="rId1"/>
          <a:stretch/>
        </p:blipFill>
        <p:spPr>
          <a:xfrm>
            <a:off x="1143000" y="663480"/>
            <a:ext cx="7543800" cy="5585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leeuwenhoek"/>
          <p:cNvPicPr/>
          <p:nvPr/>
        </p:nvPicPr>
        <p:blipFill>
          <a:blip r:embed="rId1"/>
          <a:stretch/>
        </p:blipFill>
        <p:spPr>
          <a:xfrm>
            <a:off x="1676520" y="933480"/>
            <a:ext cx="6340320" cy="3395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24" name="Text Box 4"/>
          <p:cNvSpPr/>
          <p:nvPr/>
        </p:nvSpPr>
        <p:spPr>
          <a:xfrm>
            <a:off x="1371600" y="35053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981080" y="43434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 though Leeuwenhoek’s simple microscope used only one tiny lens, it could magnify a specimen up to 266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00200" y="380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ton Van Leeuwenhoek – 1676 (Du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Theodor Schwann &amp; </a:t>
            </a:r>
            <a:br>
              <a:rPr sz="4400"/>
            </a:b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Matthias Jakob Schleiden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wann – German zoolog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iden – German botan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a theory over di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versation turned on the nuclei of plants and animal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Image:Schwann Theodore.jpg"/>
          <p:cNvPicPr/>
          <p:nvPr/>
        </p:nvPicPr>
        <p:blipFill>
          <a:blip r:embed="rId1"/>
          <a:stretch/>
        </p:blipFill>
        <p:spPr>
          <a:xfrm>
            <a:off x="4343400" y="3962520"/>
            <a:ext cx="1843200" cy="2552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Image:Matthias Jacob Schleiden.jpg"/>
          <p:cNvPicPr/>
          <p:nvPr/>
        </p:nvPicPr>
        <p:blipFill>
          <a:blip r:embed="rId2"/>
          <a:stretch/>
        </p:blipFill>
        <p:spPr>
          <a:xfrm>
            <a:off x="6324480" y="3962520"/>
            <a:ext cx="2229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486160" y="2100240"/>
          <a:ext cx="207720" cy="517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16" descr="Major events in cell biology &amp; Imaging ----1655 Robert Hooke observes cells of a cork tree through a primitive microscope.--1674 Leewenhoek discovers protozoa.--1683 Leewenhoek discovers bacteria.--1838 Schleiden &amp; Schwann propose the Cell Theory.--1857 Kolliker describes mitochondria in muscle.--1882 Koch uses aniline dyes to identify bacteria causing TB and cholera.--1898 Golgi stains cells with silver nitrate, discovering the Golgi apparatus.--1931 Ruska builds the first transmission electron microscope.--1965 1st. commercial scanning electron microscope.--1997 Sheep &quot;cloned.&quot; "/>
          <p:cNvPicPr/>
          <p:nvPr/>
        </p:nvPicPr>
        <p:blipFill>
          <a:blip r:embed="rId1"/>
          <a:stretch/>
        </p:blipFill>
        <p:spPr>
          <a:xfrm>
            <a:off x="949320" y="1447920"/>
            <a:ext cx="83059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The Cell The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iden and Schwann proposed the cell theory in 183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oke, Leeuwenhoek, Virc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imes New Roman"/>
              </a:rPr>
              <a:t>All living things are composed of ce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imes New Roman"/>
              </a:rPr>
              <a:t>Cells are the basic unit of structure and function in living th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imes New Roman"/>
              </a:rPr>
              <a:t>All arise from pre-existing cell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Classical Cell The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rganisms are made up of one or more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 are the fundamental functional and structural unit of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ells come from pre-existing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ll is the unit of structure, physiology, and organization in living th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ll retains a dual existence as a distinct entity and a building block in the construction of organis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 form by free-cell formation, similar to the formation of crystals (spontaneous generatio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Modern Cell The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ll is the fundamental unit of structure and function in living th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ells come from pre-existing cells by divi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flow (metabolism and biochemistry) occurs within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 contain hereditary information (DNA) which is passed from cell to cell during cell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ells are basically the same in chemical composi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nown living things are made up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rganisms are unicellular, i.e., made up of only one ce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are multi-cellular, composed of a number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vity of an organism depends on the total activity of independent cell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Vitalism</a:t>
            </a: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ily functions are due to a vitalistic principle existing in all living creatures has roots going back at least to ancient Egy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 existed in two radically different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organic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o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c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cooked“ non-restor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Image:Sanzio 01 Plato Aristotle.jpg"/>
          <p:cNvPicPr/>
          <p:nvPr/>
        </p:nvPicPr>
        <p:blipFill>
          <a:blip r:embed="rId1"/>
          <a:stretch/>
        </p:blipFill>
        <p:spPr>
          <a:xfrm>
            <a:off x="5867280" y="1981080"/>
            <a:ext cx="282276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Exceptions to the The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uses are considered by some to be alive, yet they are not made up of ce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cell did not originate from a pre-existing ce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Types of ce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karyotes lack a nucleus (though they do have circular DNA) and other membrane-bound organelles (though they do contain ribosome'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 and Archaea are two divisions of prokaryo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Types of cells…con’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karyotes, on the other hand, have distinct nuclei and membrane-bound organel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tochondria, chloroplasts, lysosomes, rough and smooth endoplasmic reticulum, vacuo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, they possess organized chromosomes which store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janssen"/>
          <p:cNvPicPr/>
          <p:nvPr/>
        </p:nvPicPr>
        <p:blipFill>
          <a:blip r:embed="rId1"/>
          <a:stretch/>
        </p:blipFill>
        <p:spPr>
          <a:xfrm>
            <a:off x="1676520" y="990720"/>
            <a:ext cx="6324480" cy="35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8"/>
          <p:cNvSpPr/>
          <p:nvPr/>
        </p:nvSpPr>
        <p:spPr>
          <a:xfrm>
            <a:off x="838080" y="3808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Hans &amp; Zacharias Janss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295280" y="464832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utch eyeglass makers, made one of the first compound microscopes.  Their microscope was simply 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TUBE with a LENS AT EACH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Robert Hooke – 1665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Scientist during the pl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a, Bees stinger, new pin, razor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k …“Boxes” or “Cell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 book-“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Micrographi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ther of the Cel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iving thing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de of cell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924280" y="15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Hooke"/>
          <p:cNvPicPr/>
          <p:nvPr/>
        </p:nvPicPr>
        <p:blipFill>
          <a:blip r:embed="rId1"/>
          <a:srcRect l="5560" t="4417" r="5560" b="8834"/>
          <a:stretch/>
        </p:blipFill>
        <p:spPr>
          <a:xfrm>
            <a:off x="5867280" y="2916360"/>
            <a:ext cx="2837160" cy="3484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hooke"/>
          <p:cNvPicPr/>
          <p:nvPr/>
        </p:nvPicPr>
        <p:blipFill>
          <a:blip r:embed="rId1"/>
          <a:stretch/>
        </p:blipFill>
        <p:spPr>
          <a:xfrm>
            <a:off x="1600200" y="1552680"/>
            <a:ext cx="6553080" cy="4924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03" name="Rectangle 6"/>
          <p:cNvSpPr/>
          <p:nvPr/>
        </p:nvSpPr>
        <p:spPr>
          <a:xfrm>
            <a:off x="1066680" y="228600"/>
            <a:ext cx="754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Hooke’s microscope made by Christopher C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[Engraving]"/>
          <p:cNvPicPr/>
          <p:nvPr/>
        </p:nvPicPr>
        <p:blipFill>
          <a:blip r:embed="rId1"/>
          <a:stretch/>
        </p:blipFill>
        <p:spPr>
          <a:xfrm>
            <a:off x="2138400" y="228600"/>
            <a:ext cx="4925880" cy="6324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05" name="Text Box 4"/>
          <p:cNvSpPr/>
          <p:nvPr/>
        </p:nvSpPr>
        <p:spPr>
          <a:xfrm>
            <a:off x="7162920" y="21337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162920" y="34290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ells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micro1"/>
          <p:cNvPicPr/>
          <p:nvPr/>
        </p:nvPicPr>
        <p:blipFill>
          <a:blip r:embed="rId1"/>
          <a:stretch/>
        </p:blipFill>
        <p:spPr>
          <a:xfrm>
            <a:off x="990720" y="455760"/>
            <a:ext cx="7696080" cy="6021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micrographia_flea.jpg (31601 bytes)"/>
          <p:cNvPicPr/>
          <p:nvPr/>
        </p:nvPicPr>
        <p:blipFill>
          <a:blip r:embed="rId1"/>
          <a:stretch/>
        </p:blipFill>
        <p:spPr>
          <a:xfrm>
            <a:off x="1219320" y="736560"/>
            <a:ext cx="7315200" cy="5616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fly1"/>
          <p:cNvPicPr/>
          <p:nvPr/>
        </p:nvPicPr>
        <p:blipFill>
          <a:blip r:embed="rId1"/>
          <a:stretch/>
        </p:blipFill>
        <p:spPr>
          <a:xfrm>
            <a:off x="1204920" y="1295280"/>
            <a:ext cx="7405560" cy="4151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8:55:31Z</dcterms:created>
  <dc:creator>khageman</dc:creator>
  <dc:description/>
  <dc:language>en-US</dc:language>
  <cp:lastModifiedBy>O'Connor John</cp:lastModifiedBy>
  <dcterms:modified xsi:type="dcterms:W3CDTF">2012-09-20T12:18:59Z</dcterms:modified>
  <cp:revision>23</cp:revision>
  <dc:subject/>
  <dc:title>PowerPoint Presentation</dc:title>
</cp:coreProperties>
</file>